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491-FD8E-4EB0-B9B5-F2F8C9CF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974-9A59-4288-934F-46B4E78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B7D-668A-4F1C-8CF6-1D27E289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1A6-0389-4596-8EC1-C739B4A7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AC25-A8ED-40A3-A55C-3FCFD146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8F3D-2DAD-4D7E-B1F4-1C255F73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BB7A-A447-43E0-8073-1064926B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BBC7-6002-4406-8C71-6B1D572A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1FF2-2023-49C7-B9C9-32518859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174A-6444-4EF3-8AB6-B6F2E567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59EA-3145-4FFC-825D-7399C62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B16-00AE-4FA2-93AB-04715105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795A-74A2-4A31-B970-C68119E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702-A58E-44C8-A400-37FB335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B0A-858E-4F87-89BE-AAA3EC28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8435-C4C2-4C0D-AA72-0CC5B243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76C3-19C2-4ED2-B34E-3FC1A342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D136-FF2B-43B9-996C-C2AF8795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853D-494C-41C5-9FC1-3F9CBD23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50B7-C21B-41A8-969E-8615AC9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7F06-33F3-4C67-8EE0-F6C149EE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7385-CC6D-4A19-AE4F-3DDCAABD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BF3-41FF-49F3-8A8E-FD3A054E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7943-DEB0-451F-924B-0ECE9F1E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B3C1-48A7-4551-81DD-F41EE54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1096-B463-4CEE-B18C-CDEE963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530A-1C0A-4988-B843-D17E808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741B-9AFA-4CBB-A921-29774228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FD21-F8B4-4C3C-9029-C781773B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10FF-0D44-4C38-A196-EE25CB5C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CB7FB-1FE3-4367-8531-5C0F715D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FBEC-4E11-4B58-9D30-86FFC2D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8223-59B9-4E69-AAFC-F8FFDD19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7FA-1DF5-4AC0-B2E8-470DEED0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07CF-5BBF-4BE1-BF9A-F54F2CD2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13D2-A288-42DC-9128-A6A701D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F3BD-31BB-4F2D-866F-A774CD1F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641A-F7BB-473E-9664-51C283D4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5C76-61EB-439A-994A-755EAA6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F521-F585-4610-A178-5B98093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A06D-DAD1-40F3-A62E-84FF7731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B861-F98A-4A2A-9E2C-0A39CF77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D32B-2582-4EAD-BA1D-7F829B83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A44-87F8-4D7A-B4A5-29C5806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C98-5940-48AC-99E9-288DE596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B78-2248-44DA-A248-1EC88F7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A04-B768-4C0C-B5A4-52CBACC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753-7165-4F19-BC8D-C888FCF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D1E-A1F9-463E-9C2C-E288213FA8A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B6B6-1073-4231-8055-89E400A5557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3DCC-1960-4ABF-ACD6-9BF8BA8F5EF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91B-D64E-4707-813A-CD10230910C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Ol7lrNuOnk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 и транслација-анимација процес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ских задата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a транскрипције и 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2924280"/>
            <a:ext cx="8229600" cy="1296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fOl7lrNuO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 вежб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 задатака  3.12, 3.14 и 3.1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ирка решених задатака из генетике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 2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44:24Z</dcterms:created>
  <dc:creator>Olivera Milosevic-Djordjevic</dc:creator>
  <dc:description/>
  <dc:language>en-US</dc:language>
  <cp:lastModifiedBy>Olivera Milošević-Đorđević</cp:lastModifiedBy>
  <dcterms:modified xsi:type="dcterms:W3CDTF">2023-08-28T16:56:30Z</dcterms:modified>
  <cp:revision>136</cp:revision>
  <dc:subject/>
  <dc:title>Функција наследне основе  Репликација, транскрипција, транслација</dc:title>
</cp:coreProperties>
</file>